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526-0FDF-4B99-A40C-97222B42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044-ED52-4603-84C7-B5664890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2F8-55F2-4EEC-8CCF-F452C6CC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A7A-94FB-4387-AA8E-F78DAA6A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AAD5-FFA1-4416-AAFB-C6B6F40F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36FD-6484-4D37-8639-28075C3C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DF78-8C92-4DD9-936D-CEFF8B13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1610-76F9-4BBC-AEFC-F3C4F0FA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BADC-1A3F-4DBB-A7C8-B680AC05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F91C-592B-44B2-96C9-D0A66222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16EB-6DAB-4628-8933-07DEAEA8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CC4-C784-4AC4-A3A1-C03A3C0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EA45-1422-4B6E-BD15-38D107FD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2146-FB14-4DF4-8BB5-10C38496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9D70-9BF8-4DCA-A079-86104A06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138C-EBE0-4873-8752-49782CE8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6BD6-28D0-4164-B83A-171D97B3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EF3-C58E-474F-A6EE-D67AACB2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401-9D1E-4CBA-B288-8F9FC233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82F-5E39-43AB-855A-7ECB02FE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631-F6D6-41D2-A297-49F98AE8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AA3-BA2A-47F6-88C4-25C6AE86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027-1972-40A0-8BD3-200AA46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262-AD12-4255-B8C2-7695EF1E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B2E7-0045-4965-B404-379B8FE74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0B2-E085-422A-9AB5-214323917B1B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ACQpZW-eTg&amp;safe=active" TargetMode="External"/><Relationship Id="rId2" Type="http://schemas.openxmlformats.org/officeDocument/2006/relationships/hyperlink" Target="http://www.youtube.com/watch?v=dHj5GsrQl0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ools of Environmental Scienc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Stats and Population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tatistical population- group of similar things that make up a larger population that scientists are interested in studying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Average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Mean- the number obtained by getting the sum of all data and dividing by the number of data entries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Distribution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Relative arrangement of the members of a statistical population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Bell curve- seen in figure 9, represents a normal distribution, this means that the majority of the data points are located around the mean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robabilit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The likelihood that some event will happen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DON’T GET THIS CONFUSED WITH POSSIBILITY…possibility means that something can happen, not that it is likely to happen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Sample- the number of objects being studied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Small samples provide less accurate results than large samples…see example on page 40.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isk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The probability of an unwanted outcome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Where in everyday life do you see people worrying about risks?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40" name="Picture 5" descr="ultimate_frisbee"/>
          <p:cNvPicPr/>
          <p:nvPr/>
        </p:nvPicPr>
        <p:blipFill>
          <a:blip r:embed="rId1"/>
          <a:stretch/>
        </p:blipFill>
        <p:spPr>
          <a:xfrm>
            <a:off x="5522760" y="3043080"/>
            <a:ext cx="31640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Model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Mathematical model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One or more equations that represent how something works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Physical model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3-D models that you can touch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 Narrow"/>
              </a:rPr>
              <a:t>For example, the double helix DNA model</a:t>
            </a:r>
            <a:endParaRPr b="0" lang="en-US" sz="1800" spc="-1" strike="noStrike">
              <a:solidFill>
                <a:srgbClr val="ffcc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Graphical model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A pictorial example of something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 Narrow"/>
              </a:rPr>
              <a:t>Examples include: maps, bell curves</a:t>
            </a:r>
            <a:endParaRPr b="0" lang="en-US" sz="1800" spc="-1" strike="noStrike">
              <a:solidFill>
                <a:srgbClr val="ffcc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Conceptual model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Verbal or graphical representation of how something works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 Narrow"/>
              </a:rPr>
              <a:t>Examples: flow charts, Venn Diagrams</a:t>
            </a:r>
            <a:endParaRPr b="0" lang="en-US" sz="1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BYOD Assignmen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Use the weather section of a newspaper or online resource to find examples of scientific models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Locate and describe one of each type of model: physical, graphical, and conceptua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ress Conference Assignment Updat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Video below of a press conference…get ideas!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08520" indent="-30852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http://www.youtube.com/watch?v=TmsoRoBXD18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08520" indent="-30852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 Narrow"/>
                <a:hlinkClick r:id="rId1"/>
              </a:rPr>
              <a:t>http://www.youtube.com/watch?v=1ACQpZW-eTg&amp;safe=active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08520" indent="-30852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 Narrow"/>
                <a:hlinkClick r:id="rId2"/>
              </a:rPr>
              <a:t>http://www.youtube.com/watch?v=dHj5GsrQl0E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04:37:23Z</dcterms:created>
  <dc:creator>Adam's Homepage</dc:creator>
  <dc:description/>
  <dc:language>en-US</dc:language>
  <cp:lastModifiedBy>Goosby, Nicholas</cp:lastModifiedBy>
  <dcterms:modified xsi:type="dcterms:W3CDTF">2013-08-28T21:12:19Z</dcterms:modified>
  <cp:revision>6</cp:revision>
  <dc:subject/>
  <dc:title>Chapter 2</dc:title>
</cp:coreProperties>
</file>